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5EB-1B16-4614-98E4-5A59D038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10A-062A-452C-AF03-7C7BF531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BF3-960E-4CEB-B8EC-02104F34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D88-B6C8-4C5B-B1BD-89167A6D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447-A580-403D-8879-10B887EB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481-A6E8-4A1E-BD8B-4963609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EA4-984B-47B1-A053-291F2E55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7A5-8CF0-49CD-83B1-38BC3A2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BC2-6E31-40BF-BF44-CBF2279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D6A-4694-4B8E-8908-7F0E1F8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2C2-3D19-4C7A-ADE3-5645D51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ABA-6FF0-44BA-9ADD-4583B61E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C1C-B5B9-42E8-ACEE-C1F557017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6 Kristov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je moja spás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pri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J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 dá mi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ristov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je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oja nádej, ochra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ku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utiekam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lím zvodom sat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ba s Pánom m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m obst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prudkých búrkach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d neho len pomoc dos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je vôkol mrákot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pri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J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 dá mi s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é bremeno som nies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skalím tých bludných c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raz viem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sám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ie so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e ma Pán môj chce v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dy vies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ma chráni rukou svoj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ilu dáva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musím s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j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jeho pomoc dúf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pri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J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 dá mi s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Ježiš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tra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ô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trác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zne všetka pochybn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srdca sa radosť vrac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mu vďačím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emučí už dušu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na kríž sa poze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a chváli moja p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mi dáva poko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40:04Z</dcterms:modified>
  <cp:revision>22</cp:revision>
  <dc:subject/>
  <dc:title>Je veľký náš Pán, on slávy je Kráľ Nech do všetkých strán  spev vrúcnych znie chvál.</dc:title>
</cp:coreProperties>
</file>